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932-69F8-4BFF-9ED8-E34BEF0A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68DE-DFC2-41A6-B75B-C2840B01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F1F4-2502-48BC-8372-4FA343DA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CF9-26E8-4ACD-875B-B5061AFF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CC4-2160-46B3-9C63-A4F69B69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CA4-B86F-4298-881F-CF3E81E4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F04-0000-48FD-B694-689C9452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8F7A-C8E0-4304-975E-F844B253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2B6-1623-4798-9227-D9882A4A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FA8-23E4-4D63-A968-215A0DB1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E23-61E0-41B3-8DAB-854BBD46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52A1-5B86-4181-A712-3F503594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6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EEF2-6A55-40CA-B819-54DBD9724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6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6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riters use stanzas to show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eak in their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ange in their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6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how poems could look differently if the poems are divided up different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73392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Pi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By Valerie Wor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After the yellow-whit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Pie dough is rolled o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Flat, and picked u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Drooping like a rou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Velvet mat, fitted gent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Into the dish, and pil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With sliced, sugared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Yellow-white apples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Covered with still ano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Soft dough-blanket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The whole thing trimm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And tucked in tight, th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It is all so neat, s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Thick and filled and fat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That we could happi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Eat it up, ev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Before it is cook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13372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44792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Pi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By Valerie Wor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After the yellow-whit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Pie dough is rolled o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Flat, and picked u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Drooping like a rou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Velvet mat, fitted gent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Into the dish, and pil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With sliced, sugared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Yellow-white apples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Covered with still ano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Soft dough-blanket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The whole thing trimm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And tucked in tight, th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It is all so neat, s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Thick and filled and fat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That we could happi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Eat it up, ev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Palatino"/>
              </a:rPr>
              <a:t>Before it is cook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6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ce how the placement of stanzas changes the meaning of the poem slight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6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, think about your poem and the stanzas in your poem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6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914400"/>
            <a:ext cx="7238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the stanzas show where you have changed idea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they show where you have a break in your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2-17T06:43:57Z</dcterms:created>
  <dc:creator>AAPS</dc:creator>
  <dc:description/>
  <dc:language>en-US</dc:language>
  <cp:lastModifiedBy>AAPS</cp:lastModifiedBy>
  <dcterms:modified xsi:type="dcterms:W3CDTF">2006-03-09T16:23:33Z</dcterms:modified>
  <cp:revision>6</cp:revision>
  <dc:subject/>
  <dc:title>White Space</dc:title>
</cp:coreProperties>
</file>